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6.pct" ContentType="image/x-pict"/>
  <Override PartName="/ppt/media/image15.pct" ContentType="image/x-pict"/>
  <Override PartName="/ppt/media/image17.jpeg" ContentType="image/jpeg"/>
  <Override PartName="/ppt/media/image14.pct" ContentType="image/x-pict"/>
  <Override PartName="/ppt/media/image1.pct" ContentType="image/x-pict"/>
  <Override PartName="/ppt/media/image2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0A9-91C1-4A1C-B52E-3EF41B93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8AF-4D3A-4603-8F49-F872E54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4E3-99F7-44B3-90F0-C0E99573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E8-6746-4331-A231-ABFF6615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813-20E0-464F-A92E-9D5E95F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27E-F9CE-4B7C-A032-5D89B98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B58-7FA2-41E6-80CB-A79493EA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A37-DF9A-4AFF-A507-55FD6CC1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A0F-31BC-499D-9BF6-62A803B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7F0-A0B9-4EC5-9267-F08AF70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9D5-413A-4C12-9753-614BB70C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9B6-CE92-4AEA-8CAD-F48267C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2E4-CC45-42A9-88E5-E9B8B4C6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image" Target="../media/image21.pct"/><Relationship Id="rId6" Type="http://schemas.openxmlformats.org/officeDocument/2006/relationships/image" Target="../media/image22.pct"/><Relationship Id="rId7" Type="http://schemas.openxmlformats.org/officeDocument/2006/relationships/image" Target="../media/image23.pct"/><Relationship Id="rId8" Type="http://schemas.openxmlformats.org/officeDocument/2006/relationships/image" Target="../media/image24.pct"/><Relationship Id="rId9" Type="http://schemas.openxmlformats.org/officeDocument/2006/relationships/image" Target="../media/image25.pct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343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ATTIVAZIONE DEL CROMOSOMA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LA COMPENSAZIONE DEL DOSAGGI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13920" y="6075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7986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4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III</a:t>
            </a:r>
            <a:br>
              <a:rPr sz="3200"/>
            </a:b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ni ‘80: Tecnologia del DNA ricombin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flipH="1">
            <a:off x="786780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39625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chiusura della loro rew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chiaro che numerosi livelli di controllo sono coinvolti nella inattivazione, e che  sono quelli che ci si aspetta in qualunque processo differenziativo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133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83 Gartler &amp; Riggs fanno il punto  sulle ipotesi e sui meccanismi che possano controllare il processo.Si comincia a parlare della metil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4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320" y="19051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metilazione: inizialmente si riteneva che la metilazione agend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otesse essere il meccanismo di spreading dell’inattivazione e attraverso metilasi diverse garantire al momento della replicazione il manteniment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343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realta’ studi sui marsupiali  e sui tessuti extraembrionali dei topi hanno chiarito che la metilazione e’ uno dei meccanismi per il mantenimento dell’inattivazione, ma non e’ direttamente coinvolta nel suo nell’iniz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5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1752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 che sfuggono all’inattivazione: non tutta la X viene inattivata e cominciano a comparire differenze fra uomo e to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3124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S,UBE1, RPS4, MIC2 sono inatttivati in uomo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corrispettivo nel top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ts,ube1, Rps4, Mic2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. E alcuni non mappano nella regione pseudoautos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6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320" y="449568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tre differenze emergono dagli studi nei monotremi e marsupiali. Si comincia a pensare che una spiegazione si puo’ trovare nell’evoluzione dei cromosomi sessuali che anche a livello citogenetico mostrano differenze fra le specie la legge di Ohno non sembra vera per il cromosoma X nel suo insi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flipH="1">
            <a:off x="79437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1219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sposta all’inattivazione e’ individuale o i geni rispondono in blocco? E’ dovuto a una particolare condizione della cromatina del cromosoma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7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4480" y="2590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suggerimenti vengono d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 cui il prodotto di un gene coinvolto nel compenso dose si lega a centinaia di siti lungo il cromos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3886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tri dallo spreading dell’inattivazione nelle traslocazioni X/A nel topo: la parte autosomica si inattiva meno efficac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257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formula l’ipotesi che esistano delle “way station” che presenti sul X facilitino la diffusione dell’inattivazione e che ci sia una risposta individuale dei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VII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ni ‘90: Clonaggio del centro di inattiv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flipH="1">
            <a:off x="802008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32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prio dal topo vengono gli spunti piu’ interessanti perche’ si puo’ studiarne l’espressione anche nell’embr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1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91 Brown et al. clonano XIST: mappa in Xq13, e’ espresso solo dal X inattivo e non da quello attivo, in contemporanea Borsani et al clonano l’ortologo di top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8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320" y="5000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espresso anche nell’adulto. Nel maschio e’ espresso solo nella linea germinale dove la X e’ inattiva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V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>
            <a:off x="8020080" y="533520"/>
            <a:ext cx="1123920" cy="1218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2133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nesca il processo di inattivazione o modifica uno stato di inattivazione precedente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li devono essere le caratteristiche del cen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inattiv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0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2280" y="29718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ra deve essere espresso in un momento part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’embriogenesi e non nell’adulto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41148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espresso nell’adulto allora i loci che innescano il cambio di stato nell’embriogenesi devono ancora essere individuati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espresso nel maschio solo nella linea germinale allora l’inattivazione delle cellule somatiche femminili e delle germinali maschile hanno lo stesso mec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Facciamo il punto: </a:t>
            </a:r>
            <a:br>
              <a:rPr sz="3200"/>
            </a:b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nel 1992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cosa sappiamo 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1447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nale di bloccaggio: ancora molte domande senza rispo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52280" y="25146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 centro in ogni cellula riceve un segnale, viene bloccato e la X rimane attiva ma c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4267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rosophila melanogaste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e il dosaggio viene gestito attraverso il rapporto 2A:1X questi locus sono stati identificati, ma nei mammiferi non si trova traccia di qu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4100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promessa viene dal locus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c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topo:alcuni mutanti di questo locus inibiscono la casualita’ dell’inattivazione, quindi questo potrebbe essere il controllore di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" y="339084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.. attraverso meccanismi epigenetici con la collaborazione di molecole attivatrici forse autoso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Facciamo il punto: </a:t>
            </a:r>
            <a:br>
              <a:rPr sz="3200"/>
            </a:b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nel 1992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cosa sappiamo 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74312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nale di spreading: il blocco si e’ instaurato, adesso l’informazione si deve diffondere e deve innescare la comparsa delle diverse caratteristiche del X inattivo che da studi negli embrioni hanno una precisa comparsa nel tempo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2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914400" y="46594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densazione a formare il corpo di Ba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1148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licazione tard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5105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tilazione differ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4975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nsibilita differenziale alla DN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03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ndi 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1992 Ipote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4479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esi: la replicazione tardiva e la metilazione differenziale sono entrambi dei meccanismi “self-maintaining” nel mantenere stabile l’inattivazion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33520" y="2514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marsupiali hanno solo la replicazione tardiva e non la metilazione: il loro mantenimento e’ meno ef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34830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lo proposto: a partire dal centro di inattivazione una proteina scorre lungo il DNA toccando i vari loci. Lo scorrimento e’ bidirezionale e avvi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 c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In questo modo viene modificata la conformazione del DNA e la conformazione modificata influenza la replicazione che a sua volta impedisce la trascrizione che a sua volta porta a ritardata replicazione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1992 Punti ancora osc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2193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e traslocazioni X/A del topo l’inattivazione si diffonde anche sull’autosoma, comprendo varie megabasi, quindi non sono coinvolte sequenze X specif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2280" y="274320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l’effetto variegazione e’ noto e nel 1991 e’ stata individuata la proteina HP-1(heterochromatin protein1) che risulta associata al DNA nei casi di variegazione per effetto di posizione. Potrebbe esserci un meccanismo analogo nei mammif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47401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il modello di attivazione e inattivazione e’ vero potrebbero esistere elementi che si trovano al confine dei loop che “insulano” i geni che sfuggono all’inattivaz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63520" y="1600200"/>
            <a:ext cx="888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umero dei corpi di Barr in individui affetti da alterazioni del numero dei cromosomi sessuli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809880"/>
            <a:ext cx="8690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‘INATTIVAZIONE DELLA X PROCEDE IN MODO DIFFERENTE NELLE CELLULE SOMATICHE E NELLE CELLULE GERMINAL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3960" y="2438280"/>
            <a:ext cx="6406200" cy="858600"/>
            <a:chOff x="1083960" y="2438280"/>
            <a:chExt cx="6406200" cy="858600"/>
          </a:xfrm>
        </p:grpSpPr>
        <p:sp>
          <p:nvSpPr>
            <p:cNvPr id="58" name=""/>
            <p:cNvSpPr/>
            <p:nvPr/>
          </p:nvSpPr>
          <p:spPr>
            <a:xfrm>
              <a:off x="1083960" y="2852640"/>
              <a:ext cx="6406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TUTTE LE X ECCETTO UNA, SONO INATTIVA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4076640" y="2476440"/>
              <a:ext cx="533520" cy="45720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320" y="5029200"/>
            <a:ext cx="8991360" cy="1505160"/>
            <a:chOff x="76320" y="5029200"/>
            <a:chExt cx="8991360" cy="1505160"/>
          </a:xfrm>
        </p:grpSpPr>
        <p:sp>
          <p:nvSpPr>
            <p:cNvPr id="61" name=""/>
            <p:cNvSpPr/>
            <p:nvPr/>
          </p:nvSpPr>
          <p:spPr>
            <a:xfrm>
              <a:off x="76320" y="5389560"/>
              <a:ext cx="899136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Entrambi i cromosomi X sono attivi nelle cellule germinali femminili, mentre il cromosoma X delle cellule germinali maschili e’ inattivo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4229280" y="4762440"/>
              <a:ext cx="380880" cy="914400"/>
            </a:xfrm>
            <a:custGeom>
              <a:avLst/>
              <a:gdLst>
                <a:gd name="textAreaLeft" fmla="*/ 81720 w 380880"/>
                <a:gd name="textAreaRight" fmla="*/ 299160 w 380880"/>
                <a:gd name="textAreaTop" fmla="*/ 280800 h 914400"/>
                <a:gd name="textAreaBottom" fmla="*/ 633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637"/>
                  </a:moveTo>
                  <a:lnTo>
                    <a:pt x="9539" y="6637"/>
                  </a:lnTo>
                  <a:lnTo>
                    <a:pt x="9539" y="0"/>
                  </a:lnTo>
                  <a:lnTo>
                    <a:pt x="21600" y="10800"/>
                  </a:lnTo>
                  <a:lnTo>
                    <a:pt x="9539" y="21600"/>
                  </a:lnTo>
                  <a:lnTo>
                    <a:pt x="9539" y="14963"/>
                  </a:lnTo>
                  <a:lnTo>
                    <a:pt x="0" y="14963"/>
                  </a:lnTo>
                  <a:lnTo>
                    <a:pt x="4649" y="10800"/>
                  </a:lnTo>
                  <a:lnTo>
                    <a:pt x="0" y="6637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INATTIVAZIONE DEL CROMOSOMA X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25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2280" y="1447920"/>
            <a:ext cx="873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RNA del gene Xist e’ essenziale per la fase di inizio del processo di inattavazione del cromosoma X, “avvolge” il cromosoma X inat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2720" y="2743200"/>
            <a:ext cx="7475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E’ l’unico gene SEMPRE espresso dalla X inattiv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2120" y="3581280"/>
            <a:ext cx="8076600" cy="2889360"/>
            <a:chOff x="762120" y="3581280"/>
            <a:chExt cx="8076600" cy="2889360"/>
          </a:xfrm>
        </p:grpSpPr>
        <p:grpSp>
          <p:nvGrpSpPr>
            <p:cNvPr id="263" name=""/>
            <p:cNvGrpSpPr/>
            <p:nvPr/>
          </p:nvGrpSpPr>
          <p:grpSpPr>
            <a:xfrm>
              <a:off x="762120" y="3581280"/>
              <a:ext cx="2390400" cy="2872440"/>
              <a:chOff x="762120" y="3581280"/>
              <a:chExt cx="2390400" cy="2872440"/>
            </a:xfrm>
          </p:grpSpPr>
          <p:pic>
            <p:nvPicPr>
              <p:cNvPr id="2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3581280"/>
                <a:ext cx="2390400" cy="20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907560" y="5749920"/>
                <a:ext cx="2062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ndifferenzi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28800" y="3581280"/>
              <a:ext cx="2404080" cy="2879280"/>
              <a:chOff x="3628800" y="3581280"/>
              <a:chExt cx="2404080" cy="2879280"/>
            </a:xfrm>
          </p:grpSpPr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2760" y="3581280"/>
                <a:ext cx="2396160" cy="20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3628800" y="5756760"/>
                <a:ext cx="240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 durante 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ifferenz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442560" y="3590280"/>
              <a:ext cx="2396160" cy="2880360"/>
              <a:chOff x="6442560" y="3590280"/>
              <a:chExt cx="2396160" cy="2880360"/>
            </a:xfrm>
          </p:grpSpPr>
          <p:pic>
            <p:nvPicPr>
              <p:cNvPr id="2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2560" y="3590280"/>
                <a:ext cx="2396160" cy="20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6744240" y="5766840"/>
                <a:ext cx="181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llu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ifferenzi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213360" y="4148640"/>
              <a:ext cx="387360" cy="867960"/>
            </a:xfrm>
            <a:prstGeom prst="rightArrow">
              <a:avLst>
                <a:gd name="adj1" fmla="val 85472"/>
                <a:gd name="adj2" fmla="val 10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68520" y="4148640"/>
              <a:ext cx="387000" cy="867960"/>
            </a:xfrm>
            <a:prstGeom prst="rightArrow">
              <a:avLst>
                <a:gd name="adj1" fmla="val 85472"/>
                <a:gd name="adj2" fmla="val 1000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566768"/>
                </a:gs>
                <a:gs pos="100000">
                  <a:srgbClr val="bbe0e3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440440" y="3187800"/>
            <a:ext cx="48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llule staminali embrionali (ES ce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63480" y="679320"/>
            <a:ext cx="4060800" cy="61344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5867280" y="677880"/>
            <a:ext cx="2998800" cy="6122880"/>
            <a:chOff x="5867280" y="677880"/>
            <a:chExt cx="2998800" cy="612288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5867280" y="677880"/>
              <a:ext cx="2998800" cy="61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867280" y="3733920"/>
              <a:ext cx="6098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78360" y="2590920"/>
            <a:ext cx="2590560" cy="922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nting 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atti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114800"/>
            <a:ext cx="1828800" cy="3049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5600880"/>
            <a:ext cx="1828800" cy="3045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nsazione del dosaggio in Droposhila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6240" y="2001960"/>
            <a:ext cx="8592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’ complementare all’ inattivazion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ERTRASCRIZIONE DELLA X MASCHILE (associato ad iperacetilazione dell’istone H4, meccanismi di regolazione epigenetic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2360" y="3505320"/>
            <a:ext cx="85345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ue piccoli RNA non codificanti (roX2, roX1) e cinque proteine maschio-specifiche letali (MLE, MSL-1, MSL-2,MSL-3 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sono responsabili del processo di compensazione del dosagg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5084640"/>
            <a:ext cx="85690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 ha attivita’ acetiltrasferasic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’ presente in entrambi i sessi, ma e’ associata attraverso complessi con le altre proteine suddette al cromosoma X solo nei maschi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nsazione del dosaggio in Droposhila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98108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OF ha attivita’ acetiltrasferasic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’ presente in entrambi i sessi, ma e’ associata attraverso complessi con le altre proteine suddette al cromosoma X solo nei masch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317196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 proteine MSL si localizzano insieme, presumibilmente come complesso in diverse centinaia di siti del cromosoma X mas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191120"/>
            <a:ext cx="8569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tanti privi di MOF, MLE e MSL legano il cromosoma X maschile in 30 siti discreti (siti core), probabilmente si tratta di siti di assemblaggio del compless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080" y="5537160"/>
            <a:ext cx="8505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ociazione MOF-cromosoma X maschile sensibile ad RNAs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game di roX2 ne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ROMODOMINIO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 MO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14280" y="1447920"/>
            <a:ext cx="88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ovo gene scoperto Tsix, un altro RNA non trado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rascritto dall’elica antisenso a Xis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mplement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espresso nelle cellule ES e nel embrione prec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controlla l’espresisone di Xist in cis all’iniz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dell’inatti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elezione di Tsix = inattivazione non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880" y="4952880"/>
            <a:ext cx="6967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otesi sui meccanismi di funzion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M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R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Chromatin o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59440" y="4191120"/>
            <a:ext cx="5531400" cy="4442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NFLUENZA LA SCELTA E L’IMPRINT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41400" y="45684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ili ruoli del trascritto antisenso di Xist (Ts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298600" y="1409760"/>
            <a:ext cx="149868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410080" y="1422360"/>
            <a:ext cx="1130400" cy="292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1523880" y="3421080"/>
            <a:ext cx="6015240" cy="977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523880" y="4444920"/>
            <a:ext cx="6018480" cy="1071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 flipH="1" rot="10800000">
            <a:off x="1523880" y="5567040"/>
            <a:ext cx="6019920" cy="1112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523880" y="1739880"/>
            <a:ext cx="7315200" cy="1623960"/>
            <a:chOff x="1523880" y="1739880"/>
            <a:chExt cx="7315200" cy="1623960"/>
          </a:xfrm>
        </p:grpSpPr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1523880" y="1816200"/>
              <a:ext cx="600084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566040" y="1739880"/>
              <a:ext cx="2273040" cy="70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Fattor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stabilizzanti X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ssociazione in cis con la cromat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4343400" y="1981080"/>
              <a:ext cx="2209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705360" y="237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ANNI 2000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a c’e’ di nuo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3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28600" y="1600200"/>
            <a:ext cx="85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IST, espresso solo dalla X inattiva, mappa in Xq13 (dove era sta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ppat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l centro di inattivazione, X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5257800"/>
            <a:ext cx="76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SIX, repressore in cis dell’attivita’ di 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2767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ce, elemento di controllo responsabile della scelta di quale X di quale X deve essere inatti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ntro di inattivazione dell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41200" y="2068560"/>
            <a:ext cx="86868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5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dell’inattivazione della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143000" y="1442880"/>
            <a:ext cx="6858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lo complessivo per l’inatti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905120" y="2387520"/>
            <a:ext cx="4952880" cy="121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4952880" cy="10429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362320" y="4711680"/>
            <a:ext cx="4114800" cy="1066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666880" y="5816520"/>
            <a:ext cx="3543480" cy="10159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685800" y="2895480"/>
            <a:ext cx="8077320" cy="1371600"/>
            <a:chOff x="685800" y="2895480"/>
            <a:chExt cx="8077320" cy="1371600"/>
          </a:xfrm>
        </p:grpSpPr>
        <p:pic>
          <p:nvPicPr>
            <p:cNvPr id="367" name="" descr=""/>
            <p:cNvPicPr/>
            <p:nvPr/>
          </p:nvPicPr>
          <p:blipFill>
            <a:blip r:embed="rId6"/>
            <a:stretch/>
          </p:blipFill>
          <p:spPr>
            <a:xfrm>
              <a:off x="6959520" y="3276720"/>
              <a:ext cx="180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85800" y="2895480"/>
              <a:ext cx="762120" cy="13716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4191120"/>
            <a:ext cx="8356680" cy="1218960"/>
            <a:chOff x="685800" y="4191120"/>
            <a:chExt cx="8356680" cy="1218960"/>
          </a:xfrm>
        </p:grpSpPr>
        <p:pic>
          <p:nvPicPr>
            <p:cNvPr id="370" name="" descr=""/>
            <p:cNvPicPr/>
            <p:nvPr/>
          </p:nvPicPr>
          <p:blipFill>
            <a:blip r:embed="rId7"/>
            <a:stretch/>
          </p:blipFill>
          <p:spPr>
            <a:xfrm>
              <a:off x="6946920" y="4191120"/>
              <a:ext cx="2095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85800" y="426708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09480" y="5410080"/>
            <a:ext cx="8458200" cy="1143000"/>
            <a:chOff x="609480" y="5410080"/>
            <a:chExt cx="8458200" cy="1143000"/>
          </a:xfrm>
        </p:grpSpPr>
        <p:pic>
          <p:nvPicPr>
            <p:cNvPr id="373" name="" descr=""/>
            <p:cNvPicPr/>
            <p:nvPr/>
          </p:nvPicPr>
          <p:blipFill>
            <a:blip r:embed="rId8"/>
            <a:stretch/>
          </p:blipFill>
          <p:spPr>
            <a:xfrm>
              <a:off x="6553080" y="5423040"/>
              <a:ext cx="25146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09480" y="541008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1905120" y="1219320"/>
            <a:ext cx="4952880" cy="11109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562720" y="1523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I tre tipi di croma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06440" y="1600200"/>
            <a:ext cx="74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ucromatina: regioni che contengono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crizionalmente attivi. E’ early replic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920" y="304812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costitutiva: regioni che conteng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, con pochi geni trascrizional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ivi.Si colora in modo differenziale, e’ late repl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48006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erocromatina facoltativa: eucromatina in alcuni ti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ellulari, eterocromatina in alt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76320" y="0"/>
            <a:ext cx="8991360" cy="806400"/>
            <a:chOff x="76320" y="0"/>
            <a:chExt cx="8991360" cy="806400"/>
          </a:xfrm>
        </p:grpSpPr>
        <p:pic>
          <p:nvPicPr>
            <p:cNvPr id="37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icoli consigliat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160" y="1503360"/>
            <a:ext cx="8862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1. X-chromosome inctivation: Counting, choice and initia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vner P. and Heard E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2, January 2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160" y="2874960"/>
            <a:ext cx="8862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2. Finding the X factor(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Alfr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3, July 20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4280" y="4267080"/>
            <a:ext cx="8829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3. Chromatin modification and epigenetic reprogrammin in mammalian developm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Li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ature reviews, vol. 3, September 200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4440" y="6095880"/>
            <a:ext cx="2356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4. Tesina in re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81e"/>
                </a:solidFill>
                <a:latin typeface="Comic Sans MS"/>
              </a:rPr>
              <a:t>Eterocromatina facol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7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15238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tte alla cellula di “spegnere” porzioni del gen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43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 cromosoma X e’ un intero cromosoma nella sua quasi totalita’ ad essere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00" y="3886200"/>
            <a:ext cx="89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questo caso il cromosoma assume oltre all’as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e, anche quello conformazionale: e’ piu’ condensato: corpo di B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538164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inattivazione del cromosoma X e’ l’applicazione piu’ estesa di quel sistema di regolazione che oggi chiamiamo  IMPRI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lle fem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7080" y="18288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oo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femmin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502920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i uovo prodotto ha un cromosoma X attivo prima della ferti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01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Riattivazione del cromosoma X nei maschi 47,X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27080" y="2057400"/>
            <a:ext cx="892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embrione con 2X le cellule che si differenzieranno in germinali lyonizzano insieme alle alt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allo stadio in cui l’inattivazione si verifica, non sono ancora differenziate in goni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358128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po la differenziazione in feto maschile inizi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genesi: il cromosoma X inattivo viene atti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952880"/>
            <a:ext cx="892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senza di un cromosoma X sovranumerario provoca la morte cellulare delle cellule germinali e l’atrofia del testicolo, con conseguenti livelli bassi di 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E 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457200" y="274320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Lucida Handwriting"/>
              </a:rPr>
              <a:t>TO BE CONTINU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I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ni ‘70: un aiuto dall’embriologia</a:t>
            </a: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725796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1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920" y="21337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gli embrioni di topo entrambe le X sono attive nei primi stadi. L’inattivazione e’ presente nel trofoblasto e nel’ectoderma che dara’ origine all’embrione vero e prop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8620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fferenza dell’imprinting l’origine parentale non condiziona l’attivazione: nel topo X0 la X e’ attiva indipendetemente dalla sua origine. Nel topo partenogenetico XmXm una delle X si ina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0" y="5410080"/>
            <a:ext cx="5334120" cy="619200"/>
            <a:chOff x="2286000" y="5410080"/>
            <a:chExt cx="5334120" cy="619200"/>
          </a:xfrm>
        </p:grpSpPr>
        <p:sp>
          <p:nvSpPr>
            <p:cNvPr id="125" name=""/>
            <p:cNvSpPr/>
            <p:nvPr/>
          </p:nvSpPr>
          <p:spPr>
            <a:xfrm>
              <a:off x="2666880" y="5486400"/>
              <a:ext cx="49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uali sono gli step del process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2286000" y="5410080"/>
              <a:ext cx="49068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685800" y="1981080"/>
            <a:ext cx="184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81e"/>
                </a:solidFill>
                <a:latin typeface="Comic Sans MS"/>
              </a:rPr>
              <a:t>La storia continua....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flipH="1">
            <a:off x="7791480" y="685800"/>
            <a:ext cx="1123920" cy="12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13716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ziazione: evento che si verifica in un partico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mento dell’embriogenesi e identifica un cromosoma X da mantenere attivo e inattiva l’altro.Potrebbe essere legato al rapporto 2A:1X. Nei triploidi XXX le X attive son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64771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6320" y="0"/>
            <a:ext cx="8991360" cy="6875640"/>
            <a:chOff x="76320" y="0"/>
            <a:chExt cx="8991360" cy="6875640"/>
          </a:xfrm>
        </p:grpSpPr>
        <p:pic>
          <p:nvPicPr>
            <p:cNvPr id="13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640" y="66294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28954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ntenimento: meccanismo in feedback, per cui lo stato di attivita’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l momento della replicazion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duca uno stato simile nei cromosomi”figli”. Questo si riscontra nei mammiferi euteri, ma dai primi studi nei marsupial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430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arsupiali si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n viv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ch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n vitr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goli geni si riattiv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9687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bilizzazione: Processo che si somma ai precedenti garantendone l’eefficacia. Questo meccanismo non sembrebbe efficiente nei marsup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0:07:01Z</dcterms:created>
  <dc:creator>Mariano Rocchi</dc:creator>
  <dc:description/>
  <dc:language>en-US</dc:language>
  <cp:lastModifiedBy>Mariano Rocchi</cp:lastModifiedBy>
  <dcterms:modified xsi:type="dcterms:W3CDTF">2005-01-05T08:45:29Z</dcterms:modified>
  <cp:revision>233</cp:revision>
  <dc:subject/>
  <dc:title>I mammiferi</dc:title>
</cp:coreProperties>
</file>